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7FA-CE86-4BD8-AE1B-06E9CBCD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2A8-D8DD-4EA5-871B-586014B2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C91-80DE-472E-9B38-0DE347BE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56E-EB5E-439A-8EBD-CABD7F4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9BDF-EAAC-4397-9173-D1DD51E8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4F5-B364-41EE-80B3-1A5DD418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880-1416-4769-A0C0-91EEADA7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3A5F-F2EC-474F-A270-A424A2D2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9B0E-B096-4F42-838B-45FA39B3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16E-A013-410C-BE8A-76DD90A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73D8-D53D-43F6-9445-8E6D5B2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E49-FE8F-4698-A3B0-BDE243F4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7736-D42F-4F09-B5AB-C0E4176F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178D-F7A1-40A5-8DFC-304C1C3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1DFD-1816-49E3-A0D5-27440EB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77DF-64C4-423B-9EC1-6364A434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06B1-D107-482D-8AB3-7A1AA333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A55E-181C-4866-82D2-FE68F413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A12E-DC7D-4FAC-B03E-AC7B3541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16AF-B58E-48BA-A745-049D04BE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A75B-A17A-45AB-BC03-C36BBFA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4B62-86F1-48F4-BA4C-C80D0FE2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147E-3557-4C7C-B9E4-57963048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19BB-8A57-405D-A4BB-3A1FC25F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1B47-6034-49F9-BC3F-5822AFF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6EF16-9C9C-4E39-A011-14E80365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9AF9-7E34-4074-A994-000C35A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492A-B882-46A3-B393-5BCFEB0A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425B-01DF-4C92-9374-E136B20E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965E-47B5-4D0A-B40C-47D3195B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629F9-C514-477B-A356-C4D77FA9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2574-29C0-4C2A-BE6E-48387140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E7A7-734B-4052-A035-7C474A23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F68-7DA0-4090-AFD9-AA0B96DA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33174-74A0-476C-AE50-0F49B98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99FF-BEE5-4A10-9E6C-ACC2CAC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F769-2C94-4F8A-A70D-EF5660DE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3463D-0AA0-419E-A279-9E8DFAF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984E-14F9-4CD6-8E30-25AE18E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C6C9F-1BA1-4124-85DB-5947ACF2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EF10-97D0-4926-A3D3-5D45A10D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DBAC-1586-4FD3-A52F-A095595D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07F2-F90B-482A-B158-FA534C8A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CAA-EB40-47EF-A0FA-6910A99A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267-0B71-48DF-96F9-5EF397B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F63-3BBC-4FC3-B4AF-2A5B3DD5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93F-4BD0-4250-8EBE-D0B0FDB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AA9-19B8-4453-90D0-7A03873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548B4-E605-4CDE-B14C-791B88FC0F97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2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6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9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13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4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1F510-145F-4176-A82D-92F2C57B92FB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E8A85-4906-44FB-B4E4-2C3FBB29C57D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4AA38-F273-4D9C-80A4-5C1CB0A5F151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89120" y="1190160"/>
            <a:ext cx="8596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0c226"/>
                </a:solidFill>
                <a:latin typeface="Times New Roman"/>
                <a:ea typeface="Yu Gothic UI"/>
              </a:rPr>
              <a:t>XII TRADITIONAL SCIENTIFIC CONFERENCE</a:t>
            </a:r>
            <a:br>
              <a:rPr sz="3200"/>
            </a:br>
            <a:r>
              <a:rPr b="0" lang="en-US" sz="3200" spc="-1" strike="noStrike">
                <a:solidFill>
                  <a:srgbClr val="90c226"/>
                </a:solidFill>
                <a:latin typeface="Times New Roman"/>
                <a:ea typeface="Yu Gothic UI"/>
              </a:rPr>
              <a:t>SOFIA 2025 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072800" y="5144760"/>
            <a:ext cx="807084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Model for Building a Charging Infrastructure for Electric Vehicles Along Bulgaria's Republican Highway Netwo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404040"/>
                </a:solidFill>
                <a:latin typeface="Trebuchet MS"/>
              </a:rPr>
              <a:t>Assoc. prof. d-r B. Arnaudo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680" y="3258720"/>
            <a:ext cx="865332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innovative economy in times of global challenges: New approaches to growth and sustainable futur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749160" y="0"/>
            <a:ext cx="9134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847440"/>
            <a:ext cx="9955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Green deal and the spread of electromobility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36680" y="2192400"/>
            <a:ext cx="457992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ectric power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 –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most promising solution towards reduction of greenhouse emission in tran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new type of mobility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 –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development factor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Technology developmen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nufacturing co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ropulsion technolog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Purchasing co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intenance cost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ttery capac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Charging infrastructure availability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232240" y="2184480"/>
            <a:ext cx="41846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udy methodolo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tate and development of charging infrastructure in Bulgar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on-satisfactory develope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Small number of high power charging stations</a:t>
            </a:r>
            <a:r>
              <a:rPr b="0" lang="bg-BG" sz="16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bove </a:t>
            </a:r>
            <a:r>
              <a:rPr b="0" lang="bg-BG" sz="1600" spc="-1" strike="noStrike">
                <a:solidFill>
                  <a:srgbClr val="404040"/>
                </a:solidFill>
                <a:latin typeface="Trebuchet MS"/>
              </a:rPr>
              <a:t>250-300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kW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Not well-distributed along the national road networ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Users show preference for home- over public recharg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ost charging stations are situated in citi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781200" y="-120600"/>
            <a:ext cx="9134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1680" y="1238400"/>
            <a:ext cx="859644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Data and analys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880" y="2160360"/>
            <a:ext cx="41832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pproximately 2000 charging stations available 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– 15%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of them are in Sof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gistered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vs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 – 19 630 (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arch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 202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t average battery capacity of </a:t>
            </a:r>
            <a:br>
              <a:rPr sz="1800"/>
            </a:b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6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W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Required energy for charging 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– 120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W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¼ of the total consumption for Bulgari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89320" y="2160360"/>
            <a:ext cx="4467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rips in scope – above 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15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ortest trip route – Sofia – Plovdiv, distance -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15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ongest trip route Sofia – Varna, distance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– 46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verage trip distance</a:t>
            </a:r>
            <a:r>
              <a:rPr b="0" lang="bg-BG" sz="1800" spc="-1" strike="noStrike">
                <a:solidFill>
                  <a:srgbClr val="404040"/>
                </a:solidFill>
                <a:latin typeface="Trebuchet MS"/>
              </a:rPr>
              <a:t>– 300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k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852480" y="0"/>
            <a:ext cx="9134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1127160"/>
            <a:ext cx="859644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WTPL characteristics of car models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6480" y="2082960"/>
          <a:ext cx="8523360" cy="4135320"/>
        </p:xfrm>
        <a:graphic>
          <a:graphicData uri="http://schemas.openxmlformats.org/drawingml/2006/table">
            <a:tbl>
              <a:tblPr/>
              <a:tblGrid>
                <a:gridCol w="1704960"/>
                <a:gridCol w="1704960"/>
                <a:gridCol w="1703520"/>
                <a:gridCol w="1704960"/>
                <a:gridCol w="1704960"/>
              </a:tblGrid>
              <a:tr h="10411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od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e (k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harging time from 20% to 80% (minut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verage consumption (k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ttery capacity (kW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acia Sp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nault Zo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MW i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l Ampera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eugeot E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yundai K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1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olkswagen ID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esla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koda ENY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3000" marR="63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693720" y="-96840"/>
            <a:ext cx="9134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1046160"/>
            <a:ext cx="859644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Resul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880" y="1773360"/>
            <a:ext cx="83707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Queueing model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Frequency of electric vehicle arrival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rrival tim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battery capacity and conditio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verage number of vehicle arrivals per hour – 5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verage number of charging per hour per point – 2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verage waiting time of 8 to 10 minut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n a scenario of 35 000 electric vehicles in 2026   (10 500 – 30%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waiting time  -  9 minute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verage charging time - 35 minute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460 ultrafast charging stations (DC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828720" y="0"/>
            <a:ext cx="91342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1669680"/>
            <a:ext cx="85964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onclusion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880" y="2480760"/>
            <a:ext cx="860904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harging infrastructure  -  technological developmen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life cycle of various drive system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alysis of building costs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and interface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701640" y="181080"/>
            <a:ext cx="9134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46200" y="1038240"/>
            <a:ext cx="85960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Thank you for your attentio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Content Placeholder 2" descr=""/>
          <p:cNvPicPr/>
          <p:nvPr/>
        </p:nvPicPr>
        <p:blipFill>
          <a:blip r:embed="rId1"/>
          <a:stretch/>
        </p:blipFill>
        <p:spPr>
          <a:xfrm>
            <a:off x="1312920" y="119160"/>
            <a:ext cx="6995880" cy="8827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"/>
          <p:cNvPicPr/>
          <p:nvPr/>
        </p:nvPicPr>
        <p:blipFill>
          <a:blip r:embed="rId2"/>
          <a:stretch/>
        </p:blipFill>
        <p:spPr>
          <a:xfrm>
            <a:off x="841320" y="1747800"/>
            <a:ext cx="7939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5-20T13:50:26Z</dcterms:created>
  <dc:creator>BOBI ARNAUDOV</dc:creator>
  <dc:description/>
  <dc:language>en-US</dc:language>
  <cp:lastModifiedBy>BLAGOEV Blagovest</cp:lastModifiedBy>
  <dcterms:modified xsi:type="dcterms:W3CDTF">2025-05-23T08:07:17Z</dcterms:modified>
  <cp:revision>19</cp:revision>
  <dc:subject/>
  <dc:title>XII TRADITIONAL SCIENTIFIC CONFERENCE SOFIA 2025</dc:title>
</cp:coreProperties>
</file>